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8111-077C-41F9-B7E5-394CC1A6DD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C06C-AC02-4993-B193-A3036EA82B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9480-4B01-4375-9F5D-4479184D24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7C5B-E9E5-43E2-B174-C082594D61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CAA9-85BD-4A97-86EC-046CAFF3DC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E75F-A5A4-44F8-A5DE-E0EA847A02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FE73-3640-4A56-B035-C086B33A27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F42C-AEC6-400E-9A42-F599902E62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9800-EE47-4DBA-96D5-4545FD06AA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290B-CDED-4BC6-9E57-6119C96FB8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5214-FEAA-4B83-8867-D218EA1EC3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185-0B6A-42C8-95EB-690E88B2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E4D-6F1F-4D92-9CE8-1789C15D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3EDAD-8FFD-495D-A266-F3F2BBB6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AC56F-CC8D-44CA-A9B1-D453335B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E3DCD-FA9D-4B03-ABCF-A379855D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BFC36-7BDC-4704-9F93-346CD830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D8AEC-A90E-42AD-8677-B0D9E166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0589D-C877-4439-8F9B-0AC729D0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51083-687F-4AA0-A5CD-1B4416AE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A49E7-8CF6-47CC-9287-E542A7DD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604DA-0E38-4B86-B0DE-2BBF877D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D701D-2703-439F-87AB-5D3F2298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714-8A1B-48FD-86BE-1E997A61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E3281-7729-452E-874E-86EC65B1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84EF5-B10D-43EF-BF6C-2D95EEEC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3BE0D-52B5-41E9-B138-C87EC7E4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7B6FC-368E-4D31-BACF-27728CD5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3C5EE-0EB3-4221-BEC9-3E006A18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09FD5-549F-4EF9-9255-4D90B588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CF064-D859-42EC-8A62-90F88EFF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EDCBB-788F-4312-AE51-32B609C8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CC537-5BB8-4E08-A17A-4061B376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262FE-A29D-42DB-A645-F2352D26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AB99-4554-4A6A-8E06-E2658E3F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9B8A0-67D3-476B-9309-2946B023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8CDBE-E408-4C7C-8386-E7041F3E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833F3-3881-42B7-ABA3-6E90799E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3A849-A00E-4900-ADE4-1899C3AB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5C6D6-B354-413E-BD46-C3CA71A7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8F022-8330-45D0-A1BC-21B21AAB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41A3D-A0D2-4C78-A0B8-0019CCC4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CA58A-645F-49FE-9877-3F6A1E1B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C1832-DCA2-4328-BB9B-BA1EEC31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6FA72-B575-4783-BE6A-F1B7AA1C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1111-E7A3-4BF2-8187-CA6E228D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0969C-6439-4D09-BC25-FE731670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E3D8E-15C7-4CCA-BE64-2C7F6E25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30EA8-DEFE-4AC9-9B14-8F5FFF83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B8BB8-0589-46E7-A66F-603CCE1A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CB793-4DF5-4898-9224-989046E2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E2988-F682-4603-91F0-A8A4581F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18608-EEEB-497C-9E8F-13231670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83D8B-1B2E-4E81-B241-6EE1B75A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4BDB9-08D5-4B79-824E-E6F2B740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2C7D1-45F5-466D-BDF8-B511F365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2EA3-F201-49E1-B778-82449964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3C776-69C6-4FB6-8C16-0E4C2F6A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0B45C-B4D8-438A-90D9-BF40AA4A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E53A7-09BB-40CE-B97B-048A4D2B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8544A-5C79-480C-A72E-34883D98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D2550-DE9B-4986-8CA8-C262AF76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C7777-067E-46BF-9CFF-C97B72E9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E0538-73D4-4EB7-8A9E-E8E9D1E4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490FE-FC58-4D13-93DA-152EE65A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5E2C3-84C2-41F2-8522-6341C76F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40A9B-C024-468D-8078-4823EDBB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2FA7-B340-442E-9BA2-708CDD96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6FD0B-E0C7-4A1D-90A9-9B2E55B8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F9FBC-A338-46C2-AFC5-30AE61CC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53070-8863-4315-BE7B-E2EF09ED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E190C6-32EE-4127-8E21-D9A2FE11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D0F3E-F4AB-4F2E-AFCC-556058E6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39779-87CA-4844-A751-9E70BBF2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18CE1-88EA-48A0-98D7-11E17DD0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4E24-CDDF-4BC9-834C-CD7EEB82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0FCF-DD0D-48D2-A98B-CFFAEF5C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52BA-228E-45BA-B028-1230D182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47B5-4528-4831-B3B1-78EA32AB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26B-C1F9-419C-854F-32F4ED35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7691-ACE5-4764-8AEB-05079378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0DC5-2A6B-4508-8932-88C51D83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3ABA-E623-4938-B4A9-6A199F6C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11C1-4D85-4198-BCA2-C670562C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0D80-51F1-4346-8016-D6B26BCE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3F5F-EADE-4D6E-8826-828A6D92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203E6-E832-484B-A237-F2930DEF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290A6-4EE8-4085-B845-8B9C373B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50E2-F20F-457C-9931-AF13BE79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B64A-2B3E-4549-A210-C26C567D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FB8-376D-4C4B-A259-D112401D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1FAA7-04B2-4F0E-A42B-D3E93C33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FFEFA-FF4B-412E-9A2C-CB943E04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6A5A6-36E6-4789-A899-37CF2238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47B72-F231-40C7-B7DD-731E5D6A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ED0FC-8C5B-42F3-ACD2-2A81D768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75008-552C-4DE4-84F5-AB68899C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A8B2F-E400-4674-A117-BAE1C779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C502D-70DA-4A44-BCC2-4C2920AE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5A2F9-09E3-4B2D-9FC7-5990A0D0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C22A8-C43D-4734-9BBC-B78524A4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EA6-E1CE-43E8-B3AF-75C20F81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B4E17-2114-40E8-AB0B-D68AE4B8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6BFA3-99BA-40E9-8AB7-6F715BE4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162E6-BD36-49FC-B08F-394FBF17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9C4AF-1E9D-4042-9A28-7FDAC48B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1DA5F-29B7-445E-B274-2FCC1C46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F6FC9-0219-4E07-859F-C2A213E7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54E56-138F-4065-A48C-73A518B2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FB4CE-0484-4147-A872-9EF241BE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8560A-399B-471D-AC5B-AFCB4A91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6EC84-D622-44FA-8C2B-CACFB366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889-1551-4C6D-824C-7CE6C5C3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D86FD-8E09-4F5C-8E7C-2024788B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E671C-3A08-405B-924F-D23CCC74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B4DB8-40D8-441A-8718-E03CD153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A516F-46F9-4AE1-9540-74338E50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FB15E-4DD7-409E-A840-345E2C50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346D5-1035-49F8-BE41-586A032F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70D4E-F71E-43B2-A6A7-EF1050B6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732B3-92B3-4A5C-8F4A-6F8400C5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B8B41-A754-4990-BD17-335C0A27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CD424-8DC9-45C1-9B19-558D5D3E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EC09-4C94-4B7B-A0D8-F20CA3FC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E28B5-3E39-48AA-A287-33771479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54B7D-926D-476D-B59E-A303D7E5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7EFB3-B767-4882-BAFF-455A5A1C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B68C2-AD6E-42EC-817B-9FDA0CB3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1277A-8025-40D4-BAC2-AAAE6554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C9C40-4201-498B-A671-5A6AAF35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630AC-3209-4971-8D04-62CA7617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2F963-DF36-4767-A93A-AB240311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314AA-2444-43D9-8473-376DCF8D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4330D-89ED-4C90-9A34-012EEAF5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B3F-BAFE-4EBE-80C0-E7D08C20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4EDAC-BD80-424E-BAB4-2BF852BF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70559-2CE4-4B91-A18E-1489CB0D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B15DC-6CE8-442A-B6C7-43E1824C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2050B-FD16-45B3-8A2D-A841E3B6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D61CE-EE03-4853-9BEF-4806ACC2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66786-EE48-45FE-9889-4BEF1CD9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2D1BF-653E-46DD-B41B-09DC2109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A09E7-1E45-4C82-A943-E12FB175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7B55C-B4EB-4DE8-97E9-514E9D40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72B3D-7F45-44CA-A702-E90A0A80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BB7-9F45-437D-8AA4-26163F4E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93FD3-595A-4AF5-AA9B-B7A119A7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D26D8-0BA9-434A-BB3C-B3534144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76DC4-DCB3-4329-9B86-350A6729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A2024-8BBC-4D61-AD37-6627B1CC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91EF8-5BDD-4D55-B12F-5B5F4ACC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96EB4-DBB6-46B3-B79F-2145C0EB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B3F28-790D-4BB7-9633-504E67A9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438F5-42B4-4A54-AA02-E691C1B6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A7060-5660-4BD3-A492-490D9ADE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C968A-31F1-4B2B-81A6-3DCE80F1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9C5-123D-45F9-B1B5-CE0F577E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B98AE-1400-4FCD-B70D-6776B3EE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C84C9-DBA2-4B26-844B-D16F527E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ECC88-4A84-481B-9519-A5BEF3AD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308B9-03CB-447B-BAF5-87A99543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9475C-2AC9-4928-BF02-A83AB84A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DFF96-87F2-4D4C-A50E-3AC1E9F6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724C5-84EF-4BBC-B188-E5DCD10E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E7D00-3B5B-4241-8AAB-A8681CA0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9D170-9886-46C2-B0A0-C3115B55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C8778-EAB5-400B-9451-DD6B16B1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8A9C-6224-4F4C-85AE-3DF06A1446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8ADB-16AF-4D49-8582-164BB5329D4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2EEE-B2FA-4B1B-91EE-79DD3643C9F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A559-87B7-4738-AA59-6C4CFA1D6FF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DBA2-21DD-460F-ACB9-0967980BA9A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8A63-D170-4936-9F0A-B5DFE252CD3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2937-DEBE-41B0-84C3-BD60B9DAF71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37A4-7F76-49A1-83C2-B0A6FB0837A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2450-191B-4052-A31D-8DCD10C4F10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4D1B-AB88-4C9F-A5C0-8509A69388E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8474-ED2F-4020-8EE3-A24D37CFFCB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0605-A4CE-4D65-8332-598E6EF668C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D9BF-CC0B-4568-B470-C655FEE395A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Object 2"/>
          <p:cNvGraphicFramePr/>
          <p:nvPr/>
        </p:nvGraphicFramePr>
        <p:xfrm>
          <a:off x="900000" y="404640"/>
          <a:ext cx="6189840" cy="4840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04640"/>
                    <a:ext cx="618984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8642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предмету «Окружающий мир» 1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Золотухина О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71» г. Пер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5"/>
          <p:cNvSpPr/>
          <p:nvPr/>
        </p:nvSpPr>
        <p:spPr>
          <a:xfrm>
            <a:off x="2124000" y="3244680"/>
            <a:ext cx="328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1052280"/>
            <a:ext cx="640080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Завальнюк Л.Год-пароход М.:Омега, 2001.-4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исунок кораблик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ww.weblance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78920" y="4508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год?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гром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ранный пароход, необыч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лывёт не по воде он, он по времени плы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rcRect l="0" t="12224" r="0" b="12224"/>
          <a:stretch/>
        </p:blipFill>
        <p:spPr>
          <a:xfrm>
            <a:off x="2627280" y="126828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121200" cy="11527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лежит пред ним зим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елом инее дом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4140360" y="620640"/>
            <a:ext cx="4679640" cy="511200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52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3157560" cy="1170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по весн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 капели в тиш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tretch/>
        </p:blipFill>
        <p:spPr>
          <a:xfrm>
            <a:off x="3679920" y="765000"/>
            <a:ext cx="5068800" cy="481968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67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208944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170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через лет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м вся земля согр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968720" cy="525636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6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328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о ос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ывё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ки в небе, дождь и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3851280" y="692280"/>
            <a:ext cx="4968720" cy="489744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55" descr=""/>
          <p:cNvPicPr/>
          <p:nvPr/>
        </p:nvPicPr>
        <p:blipFill>
          <a:blip r:embed="rId3"/>
          <a:stretch/>
        </p:blipFill>
        <p:spPr>
          <a:xfrm>
            <a:off x="1258920" y="3716280"/>
            <a:ext cx="194472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он плывёт и днё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елит приро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рям, что мы зовё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МИ ГО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179280" y="1832040"/>
            <a:ext cx="2305080" cy="2028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1332000" y="4221000"/>
            <a:ext cx="2879640" cy="2300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2592360" cy="2233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"/>
          <p:cNvPicPr/>
          <p:nvPr/>
        </p:nvPicPr>
        <p:blipFill>
          <a:blip r:embed="rId4"/>
          <a:stretch/>
        </p:blipFill>
        <p:spPr>
          <a:xfrm>
            <a:off x="5940360" y="3500280"/>
            <a:ext cx="2448000" cy="20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 rot="20667600">
            <a:off x="533160" y="968040"/>
            <a:ext cx="5846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в России, как и во всём мир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ён года – четы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2000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за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 –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, ВЕСНА, ЛЕТО, ОС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17056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ОГДА У ТЕБЯ ДЕНЬ РОЖДЕНИ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ЗИМОЙ    ВЕСНОЙ    ЛЕТОМ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 КОГДА ДЕНЬ РОЖДЕНИЯ У Г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ЛЕТОМ       ОСЕНЬЮ     ВЕСНОЙ   ЗИМ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ГДА ЗВЕРИ ЗАПАСАЮТ ПРОДУКТЫ НА ЗИМУ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ЕСНОЙ                                  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В КАКОЕ ВРЕМЯ ГОДА ЦВЕТУТ САД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ИМОЙ    ЛЕТОМ            ВЕСНОЙ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КОЛЬКО ТЫ ЗНАЕШЬ ВРЕМЁН ГОДА И КАК О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ЗЫВАЮТС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b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7:01:39Z</dcterms:created>
  <dc:creator>Сергей</dc:creator>
  <dc:description/>
  <dc:language>en-US</dc:language>
  <cp:lastModifiedBy>Сергей</cp:lastModifiedBy>
  <dcterms:modified xsi:type="dcterms:W3CDTF">2013-06-04T17:34:40Z</dcterms:modified>
  <cp:revision>19</cp:revision>
  <dc:subject/>
  <dc:title>Слайд 1</dc:title>
</cp:coreProperties>
</file>